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9F20-EC03-482E-AEF3-FD6B56619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look for examples of cause and effect signal words in text books and technical man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3371-6C52-4A15-912C-5B0D0BBF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B7D0-8710-4739-8691-1C5CE29D3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1FA0-69B1-4B37-A92B-D160BAF545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0E0B-891A-4A64-82A3-37730F2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4ED9-37FC-4DEB-A7AC-7BFA047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52D0B-3BDB-4E52-BCFB-0E14617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B7E4-018F-41F2-B22F-6DCCC4A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91921-3D8C-44B0-A85B-DDC4EF6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39538-5569-4349-B0CB-77E082F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3E55-5B6C-4FF3-A755-6FE20197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DF74-040F-48BB-968B-9A8E8BBB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2366-1558-4A66-87AD-EAC0B27A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A61BD-AD3F-4873-998C-F1E2A1D4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B923-21CE-47A3-8AE5-BD6AF29A98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E6115-7E8A-48C7-8B50-CEF56D5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61FEA-8155-4E53-815B-06307EA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54422-0D73-4AAF-BEA1-0ED6330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92579-7E6A-4486-8FA6-6F90697A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0342-6279-4541-BD92-51F4B7B4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C09A2-3F30-42B6-91B9-701FF1E0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2AC4D-7E80-40D3-8CC8-0C8BF21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A8475-779D-462E-ABC1-C78637F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658F9-D0BF-4F03-9714-0EF60929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F41BA-951C-4013-A6A6-92F48620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A737-7373-4EAD-86D6-8B4DF7E0DF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D5279-D132-4DBE-960B-F7C9DC88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10F50-852C-4443-AF9C-D490802A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989E5-603A-4737-9326-7CCACAEE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E83B-21F1-4E72-8A76-82B10C9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B601F-D77D-4437-9A6F-844E280B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FBD11-B266-4FE5-BCCD-D06D7410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8C37C-1396-4E92-95A7-3459873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FA455-44F4-4452-B253-7E9333ED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A209C-64A7-4D8E-92B4-F6E8EA6A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571D2-CCD2-48C2-A4E8-C63B6CB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DD5-4DB3-4461-92F8-BAC28F96A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27254-3329-48D1-A28C-94A5AA4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9A320-904D-4ED5-82A2-D955FEAC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BBCF-9F8B-4B4B-8035-D3A9CECF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7A76-745C-4E9C-879B-6E693F7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CE28-21CC-4C19-8820-F1257DA7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BD71D-2798-47E0-8813-0CBB717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C1D6-5F71-41AB-8B07-B563F688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90364-EE30-4AAD-A02C-E818C313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67D3C-41C8-4609-AB7C-CDD0B98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FCA3-54CF-4CC5-A362-98E5BB5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C63-7DBC-420D-840B-930844BD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B33B1-072C-455C-AD71-8035348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16116-3145-4080-B85C-FB858F7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0B84-E10C-40B5-8713-EC1BD75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3CB88-5DC3-44EA-A522-33483DD5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1DBAE-D027-48A8-9408-9BBA6280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B8D-233D-4E9F-8141-C77AA84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5AD-CDB1-40D9-85B3-FDCEA5BC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EAA-B0DF-411D-B761-5F0BF6FC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EBF-D986-481B-8AE5-EA14746B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CC6-A2D8-4C87-921F-0AE9374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B9FC-97ED-43F6-8FBD-477AD624B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94E-28AD-4977-87A9-7F8871D9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2E2-84AE-41AF-A5B8-656DAD2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8EF-0914-4F5C-8C23-AF38B211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2EF-55C8-449C-A5EC-845D008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B71-6B71-4992-A528-39F1143BB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4355-0493-44B0-B84B-6CC813FD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B9E6-22AB-468E-8E3A-3FF2624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5995-F48B-4CFF-B291-B473B97B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CF9-13EB-4438-97E0-711F576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8732-4F6F-4DCA-BD34-18DBEAD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96CD-567E-4325-9E99-F62F5D977B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D817-4C3B-4552-882E-3C7DEE02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548-533E-4E3F-9787-DBB3E95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7EE7-802A-4D50-8425-BB3C7AB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1772-D19B-4DA2-AA74-7050BC2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0023-6D76-487D-842E-CF6926D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8B31-787B-491D-8559-227A3135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5730-63F5-4ACC-A836-27D09A3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B017D-26BC-4A94-A91E-38DF838A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3507-7A0F-4416-8EC3-739F2257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83AB-4A86-47B0-9AE6-B3F9AB4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3AE4-C6EB-45DF-8DED-A299BC1CEB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6B6A-57F0-42E1-811A-07B33C33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2CC4-72AF-46BB-8007-FF849E50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6503D-C8F0-446A-87AF-8BA13F82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24C8-BDEA-4183-8C7A-BC8C2A6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A91C-B8BC-44B2-8CAB-C2FCC28A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7D0C-C660-4D80-9988-43D01CB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BDF0-0E8B-433B-852F-E4E57AE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43E7-4FA1-46D1-BC57-AB6D8AC4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328F-D318-42ED-86D7-D7E4614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AB3CA-420D-4DC2-8880-E85AF140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BCB6-DB8C-4943-80CF-6E98B4A92D2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4524-5D1A-4676-AD6D-F18CDFA1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E8B8-D746-4D1A-ACB5-0FE30E7C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C14A-FD30-4A59-9968-E8AEFC4B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CD80-56AC-4AF4-AF51-BFCDCE76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2255D-640C-41A1-B93D-8664AA1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6E91-5027-4A51-8766-4530D7D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38BD-1E4B-47D5-8903-896B5E68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D9CC-1537-462C-8573-0E9DBF8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C350-C81B-456B-9557-5508E925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8612-97FF-4CB0-8B6D-37766DFF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FD85-D2E2-4093-94C2-7F3264A0D6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6FC0-C32C-461D-B1B4-5DC24CE7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C180-90A8-4368-A0CA-54A11052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C4F50-3CF0-4EF7-A44B-20F34DF6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17433-0AD4-4DB5-8DCA-AA03ED3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829A-3578-4C98-B9E2-4673D5AF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0B8E-A21B-47B9-97DC-26E57B26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6426-1BCF-4F97-B41B-AFC5E408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2403-6520-46E2-A514-10377B9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2B93-72ED-4790-A145-DDBF7CA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2D19B-4E70-45B9-AA8C-185CFEDC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38A4-D141-433B-A48E-F9BBC05EB2D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EDCF-C7FF-409F-9258-FD71F840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5D71-52C4-4A32-A501-A855F4E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C873C-0A15-4ECE-8919-9534AC78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7F21-FA64-43B4-BA3F-947E81BF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3B32-234A-4024-BE05-8782815A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4132-B53D-49B7-BCFB-839F333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C98DD-F97B-427C-9250-F8B545B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EA48B-0A4C-4895-98ED-475D27E8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26968-D0A5-49C4-8919-B53C5CA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FB866-83C8-4B36-9E2F-F7905DE3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7C5E-E7EA-4B18-8C23-EC4B253BDB9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34799-829F-4AF0-9AB6-359DD377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01AD-2B66-4CB8-BBA8-F4537DE2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F677C-AA18-4CCF-B599-1FCB391A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47689-D6C1-4848-96BD-56EF46A7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D4A05-807C-4924-B764-85726358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10BE-4213-48F2-8A69-5FC94006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7A14C-09C5-4ED9-BB3F-226EC12E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EA748-D60B-4F93-B72F-61B95338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E14ED-FBAC-4541-8751-89330F9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4B18-B8F3-4A84-AAFA-ADC45E72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972E-198D-49AA-BF0B-1BE95310AA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C8B9D-A985-49B9-B8B9-A0CE953C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EA72-6307-4BA5-8710-30E5579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0195-32C4-4FF9-970A-565F5B0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4D87B-389E-49A7-A81A-0A6B83F9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35E5-4581-45C3-A734-51E7599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BA06-EF52-44D1-8FA9-5EF8D118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5D32-6CEE-44C9-9B14-75C0E727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C51F-94E9-41B0-ABD4-08D6675B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AAF7-5010-4A43-9BAF-0555D71E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B95FC-5AAE-450E-A6D0-A8983738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82A5-D836-4091-9856-240954C8AFE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5713-E972-442B-ADF6-16282EEFD3A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79A-1CAC-4892-B3BD-0337EB31743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E6C7-160C-4D72-B059-885537171E0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82F-2E69-471C-BAAC-3292B81C1B7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2AA-3E1F-4926-BFA7-DF8EB848C7A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CF6-05A9-4A69-95B8-1FDDAD6EB98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BFB8-BBF0-4CFE-BB3B-B867D32DA22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2465-ABCA-4CF6-BC01-2F0ED031D03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B78E-C823-42C1-BB09-318F51100B8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11EB-7610-43F6-8D9B-A4AF8B0B16D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556D-689E-4D5C-A898-36F7FD66EE4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 the piston pushes the fuel/air mixture into a smaller space, it creates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press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because pressure on the fuel/air mixture is greater than befo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Piston pushing the air/fuel mixture into a smaller spa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Increased pressu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pression must be an action than increases the pressure on something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undamental Ag Mechanics students use cause and effect clues to understand the operation of a four stroke internal combustion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g Mechanics—FAM 2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pair internal combustion engin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rite a description of the operation of internal combustion engin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1.R.1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can apply cause and effect clues to extend vocabula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cause of an action or event may be stated using an unfamiliar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If the effect is stated in familiar terms, it can help the reader understand the unknown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 weeds in the garden are so profuse that I can no longer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at does the word “profuse” mean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There are many wee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You can’t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ofuse must mean a large amount of something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ords signaling cause and effec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n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fo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a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intake valve is open during the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inta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. As a result, the air/fuel mixture enters into the cylinder and combustion cha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Intake value is ope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ir/fuel mixture can enter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ntake stroke must mean a period before power is created or a time when new fuel comes into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spark leads to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bust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; consequently, the explosion pushes the piston and the crankshaf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A spark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n explosion that creates pow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bustion must mean lighting the fuel/air mixture to create an explosio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59:15Z</dcterms:modified>
  <cp:revision>15</cp:revision>
  <dc:subject/>
  <dc:title>South Dakota Ag Education</dc:title>
</cp:coreProperties>
</file>